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15.png" ContentType="image/png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27.gif" ContentType="image/gif"/>
  <Override PartName="/ppt/media/image3.gif" ContentType="image/gif"/>
  <Override PartName="/ppt/media/image26.gif" ContentType="image/gif"/>
  <Override PartName="/ppt/media/image25.gif" ContentType="image/gif"/>
  <Override PartName="/ppt/media/image24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jpeg" ContentType="image/jpeg"/>
  <Override PartName="/ppt/media/image23.gif" ContentType="image/gif"/>
  <Override PartName="/ppt/media/image16.gif" ContentType="image/gif"/>
  <Override PartName="/ppt/media/image1.wmf" ContentType="image/x-wmf"/>
  <Override PartName="/ppt/media/image14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3506-084C-42DE-BC27-92762C87D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– The key to a community of learners. The key to Making It Happen.   Real talk equals real results.  Good for students, good for adults.   Classroom and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 communication- focus on positive not just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idea- create monthly/weekly news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invitations to schoo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school 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ce mail checked da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email da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 narrowly focused, high leverage areas, 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- use of both summative and formative measures, qualitative and quantitativ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- a manageable stretch from present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s to inspire rather than discou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- goals describe the outcome or the result of the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- sets a timeframe for accompl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3D7F4-7835-4AD5-BD71-737547B6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D5B21-B604-4E28-9C77-51894257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F71E3-C2E3-43B7-A308-C3FC64FE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A3613-96C7-4DC6-87B3-001557D8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B11C-30B2-4094-A6D6-C107E8F7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D4CE-8BC1-4BA8-90DE-6CF4C022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609E-8EB5-42C8-B82F-03C71A4C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58D0-BD5E-478B-B72B-B688A710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5AC0-BB3F-4030-BBAA-D83C5C36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FB7E-BBAC-4B6A-B8C0-4E1CF10A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172D-CB06-4877-9C82-89AD43BF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9F039-19BC-47B5-8F7F-AF9569D6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E281-AED3-4583-8FAF-BAE30114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F25A-E10E-452A-8F31-BC178F90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1395-295C-4AE6-BB06-7CDE0DB6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BD96-E61C-408A-AB2A-1D2BC8B2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3E4F-D55D-4B8A-86C1-F67CD713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AE484-E526-471D-B501-BF19C7A6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C8DA9-4236-4B9E-8079-109239E5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2B2F9-BD90-408D-B2CC-892DA280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01BE4-EC09-4702-A3BF-777BD3A7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0D490-E342-4751-A06A-73AAD532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4A3D4-CDA5-48C7-9BFA-3063BCD8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284AE-9879-4032-BF1C-E5C1C107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4282-5F4E-41C7-B381-20600360C26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0100-EB17-418F-A534-78D8D5CB60C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133720" y="457200"/>
            <a:ext cx="4419360" cy="434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Jester"/>
              </a:rPr>
              <a:t>James A. Farley Middle School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Jester"/>
              <a:ea typeface="Jester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819520" y="1143000"/>
          <a:ext cx="30258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143000"/>
                    <a:ext cx="3025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80060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9900"/>
                </a:solidFill>
                <a:latin typeface="Tempus Sans ITC"/>
              </a:rPr>
              <a:t>Welcome Back</a:t>
            </a:r>
            <a:br>
              <a:rPr sz="3400"/>
            </a:br>
            <a:r>
              <a:rPr b="0" lang="en-US" sz="3400" spc="-1" strike="noStrike">
                <a:solidFill>
                  <a:srgbClr val="009900"/>
                </a:solidFill>
                <a:latin typeface="Tempus Sans ITC"/>
              </a:rPr>
              <a:t>2009-2010 Another Outstanding Year!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44197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Budgetary Need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me kn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ug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28098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pecial Education Meeting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chedu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rive on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al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D Teachers paper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34120" y="2801880"/>
            <a:ext cx="32004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r. Reiner AKA Cowboy Dav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257800" y="2514600"/>
            <a:ext cx="298116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BIS Tea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rd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 our scho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 ef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ect &amp;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181480" y="2379600"/>
            <a:ext cx="39625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t’s Take a Break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124080" y="2046240"/>
            <a:ext cx="35816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tudent Recogni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BIS Tick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od News C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ght Doing G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ntastic Fri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 Sev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 of the Mon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d of the Mon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791320" y="2701800"/>
            <a:ext cx="205740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iscipline Procedur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ferral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missal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spended Students Retu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s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de of Condu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istan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51400" y="2438280"/>
            <a:ext cx="2254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S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ding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m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o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hav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o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181480" y="2473200"/>
            <a:ext cx="358164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629400" y="2209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9900"/>
                </a:solidFill>
                <a:latin typeface="Tempus Sans ITC"/>
              </a:rPr>
              <a:t>Connect with Parents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8000"/>
                </a:solidFill>
                <a:uFillTx/>
                <a:latin typeface="Tempus Sans ITC"/>
              </a:rPr>
              <a:t>#1 Goal of the NRCSD Board of Educ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Use clear, consistent communi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Utilize voicemail, district/school websites, and student agend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Promote school ev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Tahoma"/>
              </a:rPr>
              <a:t>When to Contact Paren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in the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good ne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student is no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eting behavioral expect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ing home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student is in danger of fai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 student has a significant drop in their grades (10 or more poin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student is failing tests/quizz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9900"/>
                </a:solidFill>
                <a:latin typeface="Tempus Sans ITC"/>
              </a:rPr>
              <a:t>Successful Education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It’s the people not the programs that create a successful school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4773600"/>
            <a:ext cx="8381880" cy="13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eet the Teacher (Parent) Nigh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r First Impr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ptember 21 and 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029200" y="2174760"/>
            <a:ext cx="350532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omebas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an effective homebase look lik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ctice walking the hallw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ctice proced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ield Trip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ission Sli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per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ifying Staf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per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Tri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724280" y="2273400"/>
            <a:ext cx="41148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tate Exa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in D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ccess Clu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ework Clu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618160" y="2438280"/>
            <a:ext cx="2187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PPR Procedur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edule Appoint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 Tho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k to Student Achie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RT Goals- Handou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MART GOA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empus Sans ITC"/>
              </a:rPr>
              <a:t>There is absolutely no research correlation between success and family background, race, national origin, financial status, or even educational accomplishments.  There is but one correlation with success, and that is </a:t>
            </a:r>
            <a:r>
              <a:rPr b="1" lang="en-US" sz="4100" spc="-1" strike="noStrike">
                <a:solidFill>
                  <a:srgbClr val="ff0000"/>
                </a:solidFill>
                <a:latin typeface="Tempus Sans ITC"/>
              </a:rPr>
              <a:t>ATTITUDE</a:t>
            </a: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-Harry Wo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Using Goals for Resul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Specific and Strategi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Measurab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Attainab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Results-Orient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Time bou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6324480"/>
            <a:ext cx="88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nzemius, A. &amp; O’Neill, J. (2001)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Building shared responsibility for student learnin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 Alexandra, VA: ASC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est Scor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f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ain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181480" y="23796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tudent Behavio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f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ain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778280" y="1676520"/>
            <a:ext cx="3438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arental Suppor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f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ain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305320" y="2198520"/>
            <a:ext cx="27241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elcome to F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bie Brenn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ggie MacDonn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ura Sween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t P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ibel Cespe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 Willi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9900"/>
                </a:solidFill>
                <a:latin typeface="Tempus Sans ITC"/>
              </a:rPr>
              <a:t>Communication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590920" y="1884240"/>
            <a:ext cx="3962160" cy="39625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Building Relationship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handle confli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ling buck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181480" y="2021040"/>
            <a:ext cx="3657600" cy="31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taff Developmen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ng up at Goog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2009-2010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type of year do you  want it to b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81640" y="1981080"/>
            <a:ext cx="2854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tems from the Facult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1801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tems from NRT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638680" y="2697120"/>
            <a:ext cx="22100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onthly Calenda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dboo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ail events you would like inclu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assroom Visi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us kn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952880" y="2733840"/>
            <a:ext cx="34290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Quality of Life Issu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ctron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p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havioral Expec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sent No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ses-Lunch Time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eanli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llw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. and M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pect for 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lly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486400" y="2822400"/>
            <a:ext cx="24382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Grade Level Assembli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de 5 period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de 6 period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de 7 period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ll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rofessional Expectation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et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end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per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ades- 50, 61-6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ving the Buil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ll Ph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llowing Procedures-Consist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29080" y="2209680"/>
            <a:ext cx="28465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assroo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e co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34120" y="2543040"/>
            <a:ext cx="2743200" cy="25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0:05:52Z</dcterms:created>
  <dc:creator>Administrator</dc:creator>
  <dc:description/>
  <dc:language>en-US</dc:language>
  <cp:lastModifiedBy>lmadmin</cp:lastModifiedBy>
  <dcterms:modified xsi:type="dcterms:W3CDTF">2009-09-04T01:38:50Z</dcterms:modified>
  <cp:revision>6</cp:revision>
  <dc:subject/>
  <dc:title>Welcome Back 2008-2009 Another Outstanding Year!</dc:title>
</cp:coreProperties>
</file>